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A702-72A7-4E2A-950B-B1E0601B3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multi-m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l Classmate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59C8-7245-40C1-A84A-DC94D0CA0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14F9-A08D-44BA-B736-5CDA4135A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9EF2-EA55-4C65-A1D3-CB253D6B7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260A-7CA8-4CC8-B46D-F85BDF296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17B45-0CE2-4442-90E8-FEF995200E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DAB99-B9AF-4645-B2C0-7FE4B45319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DD21-2FE2-46A6-81A8-412A995961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777F-778F-4799-BA4F-76667688E8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3C011-700B-4609-A8F5-BFE4405A75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61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D93D-62E7-4B42-8453-7A8AC6007B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5DCCC-86BF-4726-9008-6E782B2649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108E-4D45-43F7-872A-BD62AA29E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6A09-E3E0-4DA1-8E5E-FDAD5F2E36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382F-1A88-4720-BA97-3656EBF8B3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22D7D-275D-4F0F-88A9-E682195E9F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8AEEA-F901-41DF-AE7E-40F1B824E7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824AE-F83D-4297-B3F9-4BB116BCDE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40F0-E854-418E-B095-D599CAC9F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E7A8-8B02-4202-B4EF-F42FC9A4C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6C4A-EF83-4D62-BBFB-992F35346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61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185D-DD3D-40A0-ACC4-20E93ED0C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3137-ECF1-4E51-B20D-0E64946D4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71E4-F05A-4C4E-8B09-512373436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1C76-D60F-4299-A502-818EF2434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1240" indent="-35100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28760" indent="-316080">
              <a:spcBef>
                <a:spcPts val="700"/>
              </a:spcBef>
              <a:buClr>
                <a:srgbClr val="3b812f"/>
              </a:buClr>
              <a:buSzPct val="69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70040" indent="-33984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7004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7004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9088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97A4-12E2-444D-8387-55868D3CB034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300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981080" y="3962160"/>
            <a:ext cx="6553440" cy="289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81000"/>
          </a:bodyPr>
          <a:p>
            <a:pPr marL="320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9088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439B-1961-459B-AE51-745B88325E4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3" descr=""/>
          <p:cNvPicPr/>
          <p:nvPr/>
        </p:nvPicPr>
        <p:blipFill>
          <a:blip r:embed="rId1"/>
          <a:stretch/>
        </p:blipFill>
        <p:spPr>
          <a:xfrm>
            <a:off x="5562720" y="3657600"/>
            <a:ext cx="2743200" cy="2428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ssroom Presenter on the XO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C20C-ECB8-4338-8EDE-2235DFB856A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143000" y="41911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ias Kl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ur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an May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istofer Plunk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cp3d.JPG"/>
          <p:cNvPicPr/>
          <p:nvPr/>
        </p:nvPicPr>
        <p:blipFill>
          <a:blip r:embed="rId2"/>
          <a:stretch/>
        </p:blipFill>
        <p:spPr>
          <a:xfrm>
            <a:off x="533520" y="1066680"/>
            <a:ext cx="4152960" cy="28879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 10"/>
          <p:cNvSpPr/>
          <p:nvPr/>
        </p:nvSpPr>
        <p:spPr>
          <a:xfrm>
            <a:off x="5638680" y="1143000"/>
            <a:ext cx="2819520" cy="1676520"/>
          </a:xfrm>
          <a:prstGeom prst="pie">
            <a:avLst/>
          </a:prstGeom>
          <a:solidFill>
            <a:srgbClr val="cc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32448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IC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ight Arrow 12"/>
          <p:cNvSpPr/>
          <p:nvPr/>
        </p:nvSpPr>
        <p:spPr>
          <a:xfrm>
            <a:off x="4800600" y="1828800"/>
            <a:ext cx="762120" cy="533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cc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n Arrow 13"/>
          <p:cNvSpPr/>
          <p:nvPr/>
        </p:nvSpPr>
        <p:spPr>
          <a:xfrm>
            <a:off x="6781680" y="3048120"/>
            <a:ext cx="685800" cy="838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cc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05320" y="2895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77000"/>
          </a:bodyPr>
          <a:p>
            <a:pPr marL="2944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79FA-3A31-4B84-8389-45F7F07C2C3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bl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 being donated to school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ant to develop lesson plans and contribute to XO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, scattered proposals and projects, largely focused on development of XO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ithout computer expertise at 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DEAF-5CEB-40D4-B145-C54711801C84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r So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Presenter on the XO Lap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for distributing and collecting information in classroom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sely based on Classroom Presenter for Tablet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owerPoint as front-end, more accessible to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s XO into classroom set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8139-22C6-4BFB-B8A7-75400328439F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2971800" cy="2631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538920" y="278748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loads slide deck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s slides to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457200" y="196920"/>
            <a:ext cx="457200" cy="457200"/>
            <a:chOff x="457200" y="196920"/>
            <a:chExt cx="457200" cy="457200"/>
          </a:xfrm>
        </p:grpSpPr>
        <p:sp>
          <p:nvSpPr>
            <p:cNvPr id="111" name="Oval 4"/>
            <p:cNvSpPr/>
            <p:nvPr/>
          </p:nvSpPr>
          <p:spPr>
            <a:xfrm>
              <a:off x="457200" y="196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"/>
            <p:cNvSpPr/>
            <p:nvPr/>
          </p:nvSpPr>
          <p:spPr>
            <a:xfrm>
              <a:off x="519480" y="23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35"/>
          <p:cNvGrpSpPr/>
          <p:nvPr/>
        </p:nvGrpSpPr>
        <p:grpSpPr>
          <a:xfrm>
            <a:off x="4800600" y="152280"/>
            <a:ext cx="4029120" cy="3157200"/>
            <a:chOff x="4800600" y="152280"/>
            <a:chExt cx="4029120" cy="3157200"/>
          </a:xfrm>
        </p:grpSpPr>
        <p:grpSp>
          <p:nvGrpSpPr>
            <p:cNvPr id="114" name="Group 7"/>
            <p:cNvGrpSpPr/>
            <p:nvPr/>
          </p:nvGrpSpPr>
          <p:grpSpPr>
            <a:xfrm>
              <a:off x="4800600" y="152280"/>
              <a:ext cx="457200" cy="457200"/>
              <a:chOff x="4800600" y="152280"/>
              <a:chExt cx="457200" cy="457200"/>
            </a:xfrm>
          </p:grpSpPr>
          <p:sp>
            <p:nvSpPr>
              <p:cNvPr id="115" name="Oval 8"/>
              <p:cNvSpPr/>
              <p:nvPr/>
            </p:nvSpPr>
            <p:spPr>
              <a:xfrm>
                <a:off x="4800600" y="152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4862880" y="195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" name="Picture 10" descr="xo-cp-mockup-ink1"/>
            <p:cNvPicPr/>
            <p:nvPr/>
          </p:nvPicPr>
          <p:blipFill>
            <a:blip r:embed="rId2"/>
            <a:stretch/>
          </p:blipFill>
          <p:spPr>
            <a:xfrm>
              <a:off x="5486400" y="228600"/>
              <a:ext cx="320040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1"/>
            <p:cNvSpPr/>
            <p:nvPr/>
          </p:nvSpPr>
          <p:spPr>
            <a:xfrm>
              <a:off x="4807080" y="2666880"/>
              <a:ext cx="402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udents see slides and teacher’s in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own ink and send back to te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Arc 12"/>
          <p:cNvSpPr/>
          <p:nvPr/>
        </p:nvSpPr>
        <p:spPr>
          <a:xfrm>
            <a:off x="3429000" y="380880"/>
            <a:ext cx="380880" cy="38124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13"/>
          <p:cNvSpPr/>
          <p:nvPr/>
        </p:nvSpPr>
        <p:spPr>
          <a:xfrm>
            <a:off x="3429000" y="228600"/>
            <a:ext cx="533520" cy="53352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14"/>
          <p:cNvSpPr/>
          <p:nvPr/>
        </p:nvSpPr>
        <p:spPr>
          <a:xfrm>
            <a:off x="3429000" y="76320"/>
            <a:ext cx="685800" cy="68580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36"/>
          <p:cNvGrpSpPr/>
          <p:nvPr/>
        </p:nvGrpSpPr>
        <p:grpSpPr>
          <a:xfrm>
            <a:off x="228600" y="3581280"/>
            <a:ext cx="4092480" cy="3157200"/>
            <a:chOff x="228600" y="3581280"/>
            <a:chExt cx="4092480" cy="3157200"/>
          </a:xfrm>
        </p:grpSpPr>
        <p:pic>
          <p:nvPicPr>
            <p:cNvPr id="123" name="Picture 24" descr="xo-slide-ink2"/>
            <p:cNvPicPr/>
            <p:nvPr/>
          </p:nvPicPr>
          <p:blipFill>
            <a:blip r:embed="rId3"/>
            <a:stretch/>
          </p:blipFill>
          <p:spPr>
            <a:xfrm>
              <a:off x="838080" y="3809880"/>
              <a:ext cx="1854360" cy="152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Group 15"/>
            <p:cNvGrpSpPr/>
            <p:nvPr/>
          </p:nvGrpSpPr>
          <p:grpSpPr>
            <a:xfrm>
              <a:off x="228600" y="3581280"/>
              <a:ext cx="457200" cy="457200"/>
              <a:chOff x="228600" y="3581280"/>
              <a:chExt cx="457200" cy="457200"/>
            </a:xfrm>
          </p:grpSpPr>
          <p:sp>
            <p:nvSpPr>
              <p:cNvPr id="125" name="Oval 16"/>
              <p:cNvSpPr/>
              <p:nvPr/>
            </p:nvSpPr>
            <p:spPr>
              <a:xfrm>
                <a:off x="228600" y="3581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7"/>
              <p:cNvSpPr/>
              <p:nvPr/>
            </p:nvSpPr>
            <p:spPr>
              <a:xfrm>
                <a:off x="290880" y="362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18"/>
            <p:cNvSpPr/>
            <p:nvPr/>
          </p:nvSpPr>
          <p:spPr>
            <a:xfrm>
              <a:off x="232920" y="6095880"/>
              <a:ext cx="408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cher receives and reviews 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missions; gets feedback from 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21" descr="xo-slide-ink1"/>
            <p:cNvPicPr/>
            <p:nvPr/>
          </p:nvPicPr>
          <p:blipFill>
            <a:blip r:embed="rId4"/>
            <a:stretch/>
          </p:blipFill>
          <p:spPr>
            <a:xfrm>
              <a:off x="2057400" y="4191120"/>
              <a:ext cx="2070000" cy="169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37"/>
          <p:cNvGrpSpPr/>
          <p:nvPr/>
        </p:nvGrpSpPr>
        <p:grpSpPr>
          <a:xfrm>
            <a:off x="4800600" y="3429000"/>
            <a:ext cx="4358520" cy="3309480"/>
            <a:chOff x="4800600" y="3429000"/>
            <a:chExt cx="4358520" cy="3309480"/>
          </a:xfrm>
        </p:grpSpPr>
        <p:grpSp>
          <p:nvGrpSpPr>
            <p:cNvPr id="130" name="Group 25"/>
            <p:cNvGrpSpPr/>
            <p:nvPr/>
          </p:nvGrpSpPr>
          <p:grpSpPr>
            <a:xfrm>
              <a:off x="4800600" y="3581280"/>
              <a:ext cx="457200" cy="457200"/>
              <a:chOff x="4800600" y="3581280"/>
              <a:chExt cx="457200" cy="457200"/>
            </a:xfrm>
          </p:grpSpPr>
          <p:sp>
            <p:nvSpPr>
              <p:cNvPr id="131" name="Oval 26"/>
              <p:cNvSpPr/>
              <p:nvPr/>
            </p:nvSpPr>
            <p:spPr>
              <a:xfrm>
                <a:off x="4800600" y="3581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27"/>
              <p:cNvSpPr/>
              <p:nvPr/>
            </p:nvSpPr>
            <p:spPr>
              <a:xfrm>
                <a:off x="4862880" y="362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28"/>
            <p:cNvSpPr/>
            <p:nvPr/>
          </p:nvSpPr>
          <p:spPr>
            <a:xfrm>
              <a:off x="4805640" y="6095880"/>
              <a:ext cx="435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cher shares select student respon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th entire class by broadcasting 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29" descr="xo-inked"/>
            <p:cNvPicPr/>
            <p:nvPr/>
          </p:nvPicPr>
          <p:blipFill>
            <a:blip r:embed="rId5"/>
            <a:stretch/>
          </p:blipFill>
          <p:spPr>
            <a:xfrm>
              <a:off x="5562720" y="3429000"/>
              <a:ext cx="160020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30" descr="xo-inked"/>
            <p:cNvPicPr/>
            <p:nvPr/>
          </p:nvPicPr>
          <p:blipFill>
            <a:blip r:embed="rId6"/>
            <a:stretch/>
          </p:blipFill>
          <p:spPr>
            <a:xfrm>
              <a:off x="6781680" y="4081320"/>
              <a:ext cx="236232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31" descr="xo-inked"/>
            <p:cNvPicPr/>
            <p:nvPr/>
          </p:nvPicPr>
          <p:blipFill>
            <a:blip r:embed="rId7"/>
            <a:stretch/>
          </p:blipFill>
          <p:spPr>
            <a:xfrm>
              <a:off x="5105520" y="4797360"/>
              <a:ext cx="1295280" cy="11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Line 32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3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2971800" cy="2631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538920" y="278748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loads slide deck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s slides to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457200" y="196920"/>
            <a:ext cx="457200" cy="457200"/>
            <a:chOff x="457200" y="196920"/>
            <a:chExt cx="457200" cy="457200"/>
          </a:xfrm>
        </p:grpSpPr>
        <p:sp>
          <p:nvSpPr>
            <p:cNvPr id="142" name="Oval 4"/>
            <p:cNvSpPr/>
            <p:nvPr/>
          </p:nvSpPr>
          <p:spPr>
            <a:xfrm>
              <a:off x="457200" y="196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519480" y="23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35"/>
          <p:cNvGrpSpPr/>
          <p:nvPr/>
        </p:nvGrpSpPr>
        <p:grpSpPr>
          <a:xfrm>
            <a:off x="4800600" y="152280"/>
            <a:ext cx="4029120" cy="3157200"/>
            <a:chOff x="4800600" y="152280"/>
            <a:chExt cx="4029120" cy="3157200"/>
          </a:xfrm>
        </p:grpSpPr>
        <p:grpSp>
          <p:nvGrpSpPr>
            <p:cNvPr id="145" name="Group 7"/>
            <p:cNvGrpSpPr/>
            <p:nvPr/>
          </p:nvGrpSpPr>
          <p:grpSpPr>
            <a:xfrm>
              <a:off x="4800600" y="152280"/>
              <a:ext cx="457200" cy="457200"/>
              <a:chOff x="4800600" y="152280"/>
              <a:chExt cx="457200" cy="457200"/>
            </a:xfrm>
          </p:grpSpPr>
          <p:sp>
            <p:nvSpPr>
              <p:cNvPr id="146" name="Oval 8"/>
              <p:cNvSpPr/>
              <p:nvPr/>
            </p:nvSpPr>
            <p:spPr>
              <a:xfrm>
                <a:off x="4800600" y="152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9"/>
              <p:cNvSpPr/>
              <p:nvPr/>
            </p:nvSpPr>
            <p:spPr>
              <a:xfrm>
                <a:off x="4862880" y="195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8" name="Picture 10" descr="xo-cp-mockup-ink1"/>
            <p:cNvPicPr/>
            <p:nvPr/>
          </p:nvPicPr>
          <p:blipFill>
            <a:blip r:embed="rId2"/>
            <a:stretch/>
          </p:blipFill>
          <p:spPr>
            <a:xfrm>
              <a:off x="5486400" y="228600"/>
              <a:ext cx="320040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1"/>
            <p:cNvSpPr/>
            <p:nvPr/>
          </p:nvSpPr>
          <p:spPr>
            <a:xfrm>
              <a:off x="4807080" y="2666880"/>
              <a:ext cx="402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udents see slides and teacher’s in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own ink and send back to te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rc 12"/>
          <p:cNvSpPr/>
          <p:nvPr/>
        </p:nvSpPr>
        <p:spPr>
          <a:xfrm>
            <a:off x="3429000" y="380880"/>
            <a:ext cx="380880" cy="38124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13"/>
          <p:cNvSpPr/>
          <p:nvPr/>
        </p:nvSpPr>
        <p:spPr>
          <a:xfrm>
            <a:off x="3429000" y="228600"/>
            <a:ext cx="533520" cy="53352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14"/>
          <p:cNvSpPr/>
          <p:nvPr/>
        </p:nvSpPr>
        <p:spPr>
          <a:xfrm>
            <a:off x="3429000" y="76320"/>
            <a:ext cx="685800" cy="68580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36"/>
          <p:cNvGrpSpPr/>
          <p:nvPr/>
        </p:nvGrpSpPr>
        <p:grpSpPr>
          <a:xfrm>
            <a:off x="228600" y="3581280"/>
            <a:ext cx="4092480" cy="3157200"/>
            <a:chOff x="228600" y="3581280"/>
            <a:chExt cx="4092480" cy="3157200"/>
          </a:xfrm>
        </p:grpSpPr>
        <p:pic>
          <p:nvPicPr>
            <p:cNvPr id="154" name="Picture 24" descr="xo-slide-ink2"/>
            <p:cNvPicPr/>
            <p:nvPr/>
          </p:nvPicPr>
          <p:blipFill>
            <a:blip r:embed="rId3"/>
            <a:stretch/>
          </p:blipFill>
          <p:spPr>
            <a:xfrm>
              <a:off x="838080" y="3809880"/>
              <a:ext cx="1854360" cy="152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Group 15"/>
            <p:cNvGrpSpPr/>
            <p:nvPr/>
          </p:nvGrpSpPr>
          <p:grpSpPr>
            <a:xfrm>
              <a:off x="228600" y="3581280"/>
              <a:ext cx="457200" cy="457200"/>
              <a:chOff x="228600" y="3581280"/>
              <a:chExt cx="457200" cy="457200"/>
            </a:xfrm>
          </p:grpSpPr>
          <p:sp>
            <p:nvSpPr>
              <p:cNvPr id="156" name="Oval 16"/>
              <p:cNvSpPr/>
              <p:nvPr/>
            </p:nvSpPr>
            <p:spPr>
              <a:xfrm>
                <a:off x="228600" y="3581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7"/>
              <p:cNvSpPr/>
              <p:nvPr/>
            </p:nvSpPr>
            <p:spPr>
              <a:xfrm>
                <a:off x="290880" y="362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18"/>
            <p:cNvSpPr/>
            <p:nvPr/>
          </p:nvSpPr>
          <p:spPr>
            <a:xfrm>
              <a:off x="232920" y="6095880"/>
              <a:ext cx="408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cher receives and reviews 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missions; gets feedback from 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21" descr="xo-slide-ink1"/>
            <p:cNvPicPr/>
            <p:nvPr/>
          </p:nvPicPr>
          <p:blipFill>
            <a:blip r:embed="rId4"/>
            <a:stretch/>
          </p:blipFill>
          <p:spPr>
            <a:xfrm>
              <a:off x="2057400" y="4191120"/>
              <a:ext cx="2070000" cy="169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37"/>
          <p:cNvGrpSpPr/>
          <p:nvPr/>
        </p:nvGrpSpPr>
        <p:grpSpPr>
          <a:xfrm>
            <a:off x="4800600" y="3429000"/>
            <a:ext cx="4358520" cy="3309480"/>
            <a:chOff x="4800600" y="3429000"/>
            <a:chExt cx="4358520" cy="3309480"/>
          </a:xfrm>
        </p:grpSpPr>
        <p:grpSp>
          <p:nvGrpSpPr>
            <p:cNvPr id="161" name="Group 25"/>
            <p:cNvGrpSpPr/>
            <p:nvPr/>
          </p:nvGrpSpPr>
          <p:grpSpPr>
            <a:xfrm>
              <a:off x="4800600" y="3581280"/>
              <a:ext cx="457200" cy="457200"/>
              <a:chOff x="4800600" y="3581280"/>
              <a:chExt cx="457200" cy="457200"/>
            </a:xfrm>
          </p:grpSpPr>
          <p:sp>
            <p:nvSpPr>
              <p:cNvPr id="162" name="Oval 26"/>
              <p:cNvSpPr/>
              <p:nvPr/>
            </p:nvSpPr>
            <p:spPr>
              <a:xfrm>
                <a:off x="4800600" y="3581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27"/>
              <p:cNvSpPr/>
              <p:nvPr/>
            </p:nvSpPr>
            <p:spPr>
              <a:xfrm>
                <a:off x="4862880" y="362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28"/>
            <p:cNvSpPr/>
            <p:nvPr/>
          </p:nvSpPr>
          <p:spPr>
            <a:xfrm>
              <a:off x="4805640" y="6095880"/>
              <a:ext cx="435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cher shares select student respon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th entire class by broadcasting 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29" descr="xo-inked"/>
            <p:cNvPicPr/>
            <p:nvPr/>
          </p:nvPicPr>
          <p:blipFill>
            <a:blip r:embed="rId5"/>
            <a:stretch/>
          </p:blipFill>
          <p:spPr>
            <a:xfrm>
              <a:off x="5562720" y="3429000"/>
              <a:ext cx="160020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30" descr="xo-inked"/>
            <p:cNvPicPr/>
            <p:nvPr/>
          </p:nvPicPr>
          <p:blipFill>
            <a:blip r:embed="rId6"/>
            <a:stretch/>
          </p:blipFill>
          <p:spPr>
            <a:xfrm>
              <a:off x="6781680" y="4081320"/>
              <a:ext cx="236232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1" descr="xo-inked"/>
            <p:cNvPicPr/>
            <p:nvPr/>
          </p:nvPicPr>
          <p:blipFill>
            <a:blip r:embed="rId7"/>
            <a:stretch/>
          </p:blipFill>
          <p:spPr>
            <a:xfrm>
              <a:off x="5105520" y="4797360"/>
              <a:ext cx="1295280" cy="11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Line 32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9E3F-9165-43B4-9F53-5EEB7A6BBE9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rchitecture: Graph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phic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peg – easier to interact with 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vg – lower overhead &amp; XO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80880" y="35053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phics – Lesson Plan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in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PowerPoint presentations o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vert ppt -&gt; pdf -&gt; svg || ppt -&gt; emf -&gt;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9AC1-B342-4701-A267-2E0C70ADC88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rchitecture: Networking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on Pla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peg – easier to interact with 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vg – lower overhead &amp; XO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80880" y="35053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phics – Lesson Plan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in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PowerPoint presentations o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vert ppt -&gt; pdf -&gt; svg || ppt -&gt; emf -&gt;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A107-75E7-4FA1-8954-A46C8F59C8E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valuation Plan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on Pla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peg – easier to interact with 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vg – lower overhead &amp; XO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380880" y="35053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phics – Lesson Plan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in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PowerPoint presentations o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vert ppt -&gt; pdf -&gt; svg || ppt -&gt; emf -&gt;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01D9-D983-4673-8299-5503C0F227D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660240" y="1434960"/>
            <a:ext cx="3048120" cy="374652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2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twor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809880" y="609480"/>
            <a:ext cx="464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slides, communicate control information, share 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epath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onent of Sugar OS: provides discovery of shared activities and establishes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functionality regardless of underlying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od starting point for XO to XO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etano Borriello</dc:creator>
  <dc:description/>
  <cp:keywords/>
  <dc:language>en-US</dc:language>
  <cp:lastModifiedBy>wburnsid</cp:lastModifiedBy>
  <dcterms:modified xsi:type="dcterms:W3CDTF">2008-02-20T03:34:16Z</dcterms:modified>
  <cp:revision>10</cp:revision>
  <dc:subject/>
  <dc:title>Project title</dc:title>
</cp:coreProperties>
</file>